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193-A2B1-4588-9201-96A289F4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3A5-67EB-4DBE-9299-BB7F8F83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8A1D-9AD8-4BEC-BE1C-1C19C99E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A2A-0F7C-42E5-BE4C-D3A8A746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479-D200-41CE-ADB6-E7C89B04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E32F-ED4B-4322-9A32-45938921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8FB2-C695-4128-AD0A-82B9486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4477-8316-42CC-9B0F-A8BD9AB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6DE5-2604-42AA-93E4-E838EC2F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E85E-A170-48C2-BF7F-DE1E713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B3A3-2A55-4906-A184-BBCDFD1B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E6B-6453-4299-B2B7-721E18EF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8600-2E9C-4E31-8581-5C3ECEE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D00-51D7-4C88-BA57-AC947292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CEF4-A02F-4AC5-A99D-CE924144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2D3F-62A0-41D9-AEF3-0921E3E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B40C-FD25-43C2-A0D8-F8184CCD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639A-1CF1-468B-9AAF-676124D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605-2C91-4818-B032-0F92CB80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3F9-638D-4EB5-8DAF-25BC2C7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7658-F8F2-4C7B-8672-D8E6E58C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CCB-FFD7-4562-9113-2065120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224-495F-4EFA-A970-32F2389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F3F-C80D-4781-BFBE-1B5017C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887D-5F96-4AFC-AD73-68C1B80F3EA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C3E8-FC90-4DC1-B123-E52B0147F7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nformatics.sussex.ac.uk/users/khs20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800" y="2411280"/>
            <a:ext cx="814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We might represent set of points (like a trajectory) as a  sum of a number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f Gaussian components. We decide how many components and fit to data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21240" y="3346560"/>
                <a:ext cx="1015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27200" y="5486400"/>
                <a:ext cx="63165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/>
                    </m:nary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m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1447920" y="3200400"/>
            <a:ext cx="3773160" cy="2133360"/>
            <a:chOff x="1447920" y="3200400"/>
            <a:chExt cx="3773160" cy="2133360"/>
          </a:xfrm>
        </p:grpSpPr>
        <p:grpSp>
          <p:nvGrpSpPr>
            <p:cNvPr id="137" name=""/>
            <p:cNvGrpSpPr/>
            <p:nvPr/>
          </p:nvGrpSpPr>
          <p:grpSpPr>
            <a:xfrm>
              <a:off x="1447920" y="3200400"/>
              <a:ext cx="3657600" cy="2133360"/>
              <a:chOff x="1447920" y="3200400"/>
              <a:chExt cx="3657600" cy="2133360"/>
            </a:xfrm>
          </p:grpSpPr>
          <p:sp>
            <p:nvSpPr>
              <p:cNvPr id="138" name=""/>
              <p:cNvSpPr/>
              <p:nvPr/>
            </p:nvSpPr>
            <p:spPr>
              <a:xfrm rot="18601800">
                <a:off x="1545480" y="4168800"/>
                <a:ext cx="1523880" cy="3474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883400">
                <a:off x="2895120" y="3733200"/>
                <a:ext cx="1067040" cy="53280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9290000">
                <a:off x="3809520" y="3656880"/>
                <a:ext cx="1143000" cy="456840"/>
              </a:xfrm>
              <a:prstGeom prst="ellipse">
                <a:avLst/>
              </a:prstGeom>
              <a:solidFill>
                <a:srgbClr val="99cc99">
                  <a:alpha val="50000"/>
                </a:srgbClr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447920" y="3200400"/>
                <a:ext cx="3657600" cy="2133360"/>
                <a:chOff x="1447920" y="3200400"/>
                <a:chExt cx="3657600" cy="2133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447920" y="3200400"/>
                  <a:ext cx="0" cy="2133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47920" y="5333760"/>
                  <a:ext cx="3657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28800" y="3504960"/>
                  <a:ext cx="2971800" cy="1523520"/>
                </a:xfrm>
                <a:custGeom>
                  <a:avLst/>
                  <a:gdLst/>
                  <a:ahLst/>
                  <a:rect l="l" t="t" r="r" b="b"/>
                  <a:pathLst>
                    <a:path w="1872" h="960">
                      <a:moveTo>
                        <a:pt x="1872" y="0"/>
                      </a:moveTo>
                      <a:cubicBezTo>
                        <a:pt x="1680" y="204"/>
                        <a:pt x="1488" y="408"/>
                        <a:pt x="1296" y="432"/>
                      </a:cubicBezTo>
                      <a:cubicBezTo>
                        <a:pt x="1104" y="456"/>
                        <a:pt x="896" y="120"/>
                        <a:pt x="720" y="144"/>
                      </a:cubicBezTo>
                      <a:cubicBezTo>
                        <a:pt x="544" y="168"/>
                        <a:pt x="360" y="440"/>
                        <a:pt x="240" y="576"/>
                      </a:cubicBezTo>
                      <a:cubicBezTo>
                        <a:pt x="120" y="712"/>
                        <a:pt x="40" y="904"/>
                        <a:pt x="0" y="96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472280" y="34286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548600" y="35809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015080" y="37335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09140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96320" y="38095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81920" y="41144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05600" y="38858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253320" y="39621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329280" y="37335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2472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00680" y="38095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56752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14880" y="39621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86280" y="41907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43680" y="34286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719800" y="365724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1052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29080" y="47239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881720" y="441936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34000" y="44953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10320" y="4038120"/>
                  <a:ext cx="34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3366"/>
                      </a:solidFill>
                      <a:latin typeface="Symbol"/>
                      <a:ea typeface="Symbol"/>
                    </a:rPr>
                    <a:t></a:t>
                  </a:r>
                  <a:endParaRPr b="0" lang="en-US" sz="16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4570920" y="396216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51880" y="332892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08920" y="3757320"/>
              <a:ext cx="65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m=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5306760" y="3730680"/>
            <a:ext cx="373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Here, each mixture m has i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wn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m) vector (length k=2) and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atrix (2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2 matrix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800" y="2411280"/>
            <a:ext cx="81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r, a common trick with HMMs, we can use a single co-variance matrix …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814400" y="5486400"/>
                <a:ext cx="5940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</m:sup>
                      <m:e/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3043080" y="3129120"/>
            <a:ext cx="3657600" cy="2133360"/>
            <a:chOff x="3043080" y="3129120"/>
            <a:chExt cx="3657600" cy="2133360"/>
          </a:xfrm>
        </p:grpSpPr>
        <p:sp>
          <p:nvSpPr>
            <p:cNvPr id="174" name=""/>
            <p:cNvSpPr/>
            <p:nvPr/>
          </p:nvSpPr>
          <p:spPr>
            <a:xfrm>
              <a:off x="3281400" y="4557600"/>
              <a:ext cx="60948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4521240" y="3346560"/>
                  <a:ext cx="101520" cy="16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pSp>
          <p:nvGrpSpPr>
            <p:cNvPr id="176" name=""/>
            <p:cNvGrpSpPr/>
            <p:nvPr/>
          </p:nvGrpSpPr>
          <p:grpSpPr>
            <a:xfrm>
              <a:off x="3043080" y="3129120"/>
              <a:ext cx="3657600" cy="2133360"/>
              <a:chOff x="3043080" y="3129120"/>
              <a:chExt cx="3657600" cy="21333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3080" y="3129120"/>
                <a:ext cx="0" cy="21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43080" y="5262480"/>
                <a:ext cx="3657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23960" y="3433680"/>
                <a:ext cx="2971800" cy="1523520"/>
              </a:xfrm>
              <a:custGeom>
                <a:avLst/>
                <a:gdLst/>
                <a:ahLst/>
                <a:rect l="l" t="t" r="r" b="b"/>
                <a:pathLst>
                  <a:path w="1872" h="960">
                    <a:moveTo>
                      <a:pt x="1872" y="0"/>
                    </a:moveTo>
                    <a:cubicBezTo>
                      <a:pt x="1680" y="204"/>
                      <a:pt x="1488" y="408"/>
                      <a:pt x="1296" y="432"/>
                    </a:cubicBezTo>
                    <a:cubicBezTo>
                      <a:pt x="1104" y="456"/>
                      <a:pt x="896" y="120"/>
                      <a:pt x="720" y="144"/>
                    </a:cubicBezTo>
                    <a:cubicBezTo>
                      <a:pt x="544" y="168"/>
                      <a:pt x="360" y="440"/>
                      <a:pt x="240" y="576"/>
                    </a:cubicBezTo>
                    <a:cubicBezTo>
                      <a:pt x="120" y="712"/>
                      <a:pt x="40" y="904"/>
                      <a:pt x="0" y="96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67440" y="33573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43760" y="35096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10240" y="36622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68656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91480" y="37382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77080" y="40431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000760" y="38145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48480" y="38908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24440" y="36622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61988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695840" y="37382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6268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10040" y="38908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781440" y="41194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8840" y="33573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14960" y="358596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0568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24240" y="46526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76880" y="434808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29160" y="44240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05480" y="3966840"/>
                <a:ext cx="34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</a:t>
                </a:r>
                <a:endParaRPr b="0" lang="en-US" sz="1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605040" y="4010040"/>
              <a:ext cx="60984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0680" y="3519360"/>
              <a:ext cx="60948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53000" y="3629160"/>
              <a:ext cx="609480" cy="5331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6880" y="3838680"/>
              <a:ext cx="609480" cy="53316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43520" y="3476520"/>
              <a:ext cx="609840" cy="533520"/>
            </a:xfrm>
            <a:prstGeom prst="ellipse">
              <a:avLst/>
            </a:prstGeom>
            <a:solidFill>
              <a:srgbClr val="99cc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ixtures of Gaussia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47800" y="243828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r we can treat a set of variables (like pixels in an image) as a set of Gaussian function (one or more per pixel) to describe its variability over a set (e.g. tim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8" name="x_mean" descr=""/>
          <p:cNvPicPr/>
          <p:nvPr/>
        </p:nvPicPr>
        <p:blipFill>
          <a:blip r:embed="rId1"/>
          <a:stretch/>
        </p:blipFill>
        <p:spPr>
          <a:xfrm>
            <a:off x="4341960" y="3519360"/>
            <a:ext cx="2286000" cy="2143080"/>
          </a:xfrm>
          <a:prstGeom prst="rect">
            <a:avLst/>
          </a:prstGeom>
          <a:ln w="0">
            <a:noFill/>
          </a:ln>
        </p:spPr>
      </p:pic>
      <p:pic>
        <p:nvPicPr>
          <p:cNvPr id="209" name="x_std" descr=""/>
          <p:cNvPicPr/>
          <p:nvPr/>
        </p:nvPicPr>
        <p:blipFill>
          <a:blip r:embed="rId2"/>
          <a:stretch/>
        </p:blipFill>
        <p:spPr>
          <a:xfrm>
            <a:off x="6780240" y="3519360"/>
            <a:ext cx="2260440" cy="2119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611600" y="5734080"/>
            <a:ext cx="420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 this example, each pixel position h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one Gaussian function, so we can view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he mean and variance maps as imag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978120" y="3657600"/>
            <a:ext cx="3385800" cy="1716120"/>
            <a:chOff x="978120" y="3657600"/>
            <a:chExt cx="3385800" cy="1716120"/>
          </a:xfrm>
        </p:grpSpPr>
        <p:sp>
          <p:nvSpPr>
            <p:cNvPr id="212" name=""/>
            <p:cNvSpPr/>
            <p:nvPr/>
          </p:nvSpPr>
          <p:spPr>
            <a:xfrm>
              <a:off x="978120" y="3657600"/>
              <a:ext cx="33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X={          ,           ,          ,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                 </a:t>
              </a:r>
              <a:r>
                <a:rPr b="0" lang="en-GB" sz="2400" spc="-1" strike="noStrike">
                  <a:solidFill>
                    <a:srgbClr val="003366"/>
                  </a:solidFill>
                  <a:latin typeface="Times New Roman"/>
                </a:rPr>
                <a:t>,           ,  …}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13" name="shrub2seq0" descr=""/>
            <p:cNvPicPr/>
            <p:nvPr/>
          </p:nvPicPr>
          <p:blipFill>
            <a:blip r:embed="rId3"/>
            <a:stretch/>
          </p:blipFill>
          <p:spPr>
            <a:xfrm>
              <a:off x="1646280" y="3659040"/>
              <a:ext cx="65880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shrub2seq10" descr=""/>
            <p:cNvPicPr/>
            <p:nvPr/>
          </p:nvPicPr>
          <p:blipFill>
            <a:blip r:embed="rId4"/>
            <a:stretch/>
          </p:blipFill>
          <p:spPr>
            <a:xfrm>
              <a:off x="2529000" y="3657600"/>
              <a:ext cx="631800" cy="5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shrub2seq15" descr=""/>
            <p:cNvPicPr/>
            <p:nvPr/>
          </p:nvPicPr>
          <p:blipFill>
            <a:blip r:embed="rId5"/>
            <a:stretch/>
          </p:blipFill>
          <p:spPr>
            <a:xfrm>
              <a:off x="3403440" y="3665520"/>
              <a:ext cx="6130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shrub2seq20" descr=""/>
            <p:cNvPicPr/>
            <p:nvPr/>
          </p:nvPicPr>
          <p:blipFill>
            <a:blip r:embed="rId6"/>
            <a:stretch/>
          </p:blipFill>
          <p:spPr>
            <a:xfrm>
              <a:off x="1619280" y="4708440"/>
              <a:ext cx="696960" cy="6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hrub2seq24" descr=""/>
            <p:cNvPicPr/>
            <p:nvPr/>
          </p:nvPicPr>
          <p:blipFill>
            <a:blip r:embed="rId7"/>
            <a:stretch/>
          </p:blipFill>
          <p:spPr>
            <a:xfrm>
              <a:off x="2490840" y="4727520"/>
              <a:ext cx="68904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23600" y="8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Hidden Markov Model (HMM)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reminder of model structure from previous l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758880" y="4782600"/>
            <a:ext cx="711000" cy="635040"/>
          </a:xfrm>
          <a:custGeom>
            <a:avLst/>
            <a:gdLst/>
            <a:ahLst/>
            <a:rect l="l" t="t" r="r" b="b"/>
            <a:pathLst>
              <a:path w="448" h="400">
                <a:moveTo>
                  <a:pt x="104" y="400"/>
                </a:moveTo>
                <a:cubicBezTo>
                  <a:pt x="52" y="312"/>
                  <a:pt x="0" y="224"/>
                  <a:pt x="8" y="160"/>
                </a:cubicBezTo>
                <a:cubicBezTo>
                  <a:pt x="16" y="96"/>
                  <a:pt x="88" y="32"/>
                  <a:pt x="152" y="16"/>
                </a:cubicBezTo>
                <a:cubicBezTo>
                  <a:pt x="216" y="0"/>
                  <a:pt x="344" y="24"/>
                  <a:pt x="392" y="64"/>
                </a:cubicBezTo>
                <a:cubicBezTo>
                  <a:pt x="440" y="104"/>
                  <a:pt x="448" y="200"/>
                  <a:pt x="440" y="256"/>
                </a:cubicBezTo>
                <a:cubicBezTo>
                  <a:pt x="432" y="312"/>
                  <a:pt x="344" y="376"/>
                  <a:pt x="344" y="4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06520" y="2585880"/>
            <a:ext cx="7618680" cy="4229280"/>
            <a:chOff x="1406520" y="2585880"/>
            <a:chExt cx="7618680" cy="4229280"/>
          </a:xfrm>
        </p:grpSpPr>
        <p:sp>
          <p:nvSpPr>
            <p:cNvPr id="221" name=""/>
            <p:cNvSpPr/>
            <p:nvPr/>
          </p:nvSpPr>
          <p:spPr>
            <a:xfrm>
              <a:off x="1406520" y="4592520"/>
              <a:ext cx="1066680" cy="99072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7120" y="4567320"/>
              <a:ext cx="1066680" cy="99036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2520" y="4592520"/>
              <a:ext cx="1066680" cy="990720"/>
            </a:xfrm>
            <a:prstGeom prst="ellipse">
              <a:avLst/>
            </a:prstGeom>
            <a:solidFill>
              <a:srgbClr val="666699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73200" y="4973760"/>
              <a:ext cx="1219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473200" y="5202360"/>
              <a:ext cx="12193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921120" y="5557680"/>
              <a:ext cx="711360" cy="63504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5400000">
              <a:off x="7235640" y="4757760"/>
              <a:ext cx="711360" cy="635040"/>
            </a:xfrm>
            <a:custGeom>
              <a:avLst/>
              <a:gdLst/>
              <a:ahLst/>
              <a:rect l="l" t="t" r="r" b="b"/>
              <a:pathLst>
                <a:path w="448" h="400">
                  <a:moveTo>
                    <a:pt x="104" y="400"/>
                  </a:moveTo>
                  <a:cubicBezTo>
                    <a:pt x="52" y="312"/>
                    <a:pt x="0" y="224"/>
                    <a:pt x="8" y="160"/>
                  </a:cubicBezTo>
                  <a:cubicBezTo>
                    <a:pt x="16" y="96"/>
                    <a:pt x="88" y="32"/>
                    <a:pt x="152" y="16"/>
                  </a:cubicBezTo>
                  <a:cubicBezTo>
                    <a:pt x="216" y="0"/>
                    <a:pt x="344" y="24"/>
                    <a:pt x="392" y="64"/>
                  </a:cubicBezTo>
                  <a:cubicBezTo>
                    <a:pt x="440" y="104"/>
                    <a:pt x="448" y="200"/>
                    <a:pt x="440" y="256"/>
                  </a:cubicBezTo>
                  <a:cubicBezTo>
                    <a:pt x="432" y="312"/>
                    <a:pt x="344" y="376"/>
                    <a:pt x="344" y="40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72160" y="49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00000" y="4910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82760" y="4898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9200" y="5024520"/>
              <a:ext cx="137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35520" y="5253120"/>
              <a:ext cx="1371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16000" y="5557680"/>
              <a:ext cx="4572000" cy="914400"/>
            </a:xfrm>
            <a:custGeom>
              <a:avLst/>
              <a:gdLst/>
              <a:ahLst/>
              <a:rect l="l" t="t" r="r" b="b"/>
              <a:pathLst>
                <a:path w="2880" h="576">
                  <a:moveTo>
                    <a:pt x="0" y="0"/>
                  </a:moveTo>
                  <a:cubicBezTo>
                    <a:pt x="504" y="288"/>
                    <a:pt x="1008" y="576"/>
                    <a:pt x="1488" y="576"/>
                  </a:cubicBezTo>
                  <a:cubicBezTo>
                    <a:pt x="1968" y="576"/>
                    <a:pt x="2648" y="104"/>
                    <a:pt x="288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40040" y="5557680"/>
              <a:ext cx="4952880" cy="1257480"/>
            </a:xfrm>
            <a:custGeom>
              <a:avLst/>
              <a:gdLst/>
              <a:ahLst/>
              <a:rect l="l" t="t" r="r" b="b"/>
              <a:pathLst>
                <a:path w="3120" h="792">
                  <a:moveTo>
                    <a:pt x="48" y="0"/>
                  </a:moveTo>
                  <a:cubicBezTo>
                    <a:pt x="24" y="20"/>
                    <a:pt x="0" y="40"/>
                    <a:pt x="144" y="144"/>
                  </a:cubicBezTo>
                  <a:cubicBezTo>
                    <a:pt x="288" y="248"/>
                    <a:pt x="664" y="520"/>
                    <a:pt x="912" y="624"/>
                  </a:cubicBezTo>
                  <a:cubicBezTo>
                    <a:pt x="1160" y="728"/>
                    <a:pt x="1384" y="792"/>
                    <a:pt x="1632" y="768"/>
                  </a:cubicBezTo>
                  <a:cubicBezTo>
                    <a:pt x="1880" y="744"/>
                    <a:pt x="2152" y="608"/>
                    <a:pt x="2400" y="480"/>
                  </a:cubicBezTo>
                  <a:cubicBezTo>
                    <a:pt x="2648" y="352"/>
                    <a:pt x="3000" y="88"/>
                    <a:pt x="3120" y="0"/>
                  </a:cubicBezTo>
                </a:path>
              </a:pathLst>
            </a:custGeom>
            <a:noFill/>
            <a:ln w="9360">
              <a:solidFill>
                <a:srgbClr val="003366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0652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6884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54840" y="2585880"/>
              <a:ext cx="1066680" cy="990720"/>
            </a:xfrm>
            <a:prstGeom prst="ellipse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1940040" y="3576600"/>
              <a:ext cx="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40040" y="3500280"/>
              <a:ext cx="205740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940040" y="3576600"/>
              <a:ext cx="457200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2015640" y="3576600"/>
              <a:ext cx="221004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4226040" y="3576240"/>
              <a:ext cx="0" cy="10666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226040" y="3576600"/>
              <a:ext cx="236196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2244240" y="3500280"/>
              <a:ext cx="449604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4530240" y="3500280"/>
              <a:ext cx="2210040" cy="10670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40640" y="3576600"/>
              <a:ext cx="0" cy="990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30160" y="29052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87440" y="290664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94320" y="2876400"/>
              <a:ext cx="40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r>
                <a:rPr b="1" lang="en-US" sz="2000" spc="-1" strike="noStrike" baseline="30000">
                  <a:solidFill>
                    <a:srgbClr val="0033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47600" y="270036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Observ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variable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81920" y="4624560"/>
              <a:ext cx="104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Hidden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states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dden states are indexes to Gaussian mix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3" name="geyser1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5108400" cy="3833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725800" y="2935440"/>
            <a:ext cx="31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Adapted from an example by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Sam Rowe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ata maps time betwee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ruptions of a geyser v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duration of erup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This is modelled as a HM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with 3 hidden stat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43040" y="7948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56800" y="239508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ctor and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atrix as befo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262160" y="3905280"/>
          <a:ext cx="2914560" cy="215280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 rot="16200000">
            <a:off x="129600" y="5042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87080" y="3648240"/>
            <a:ext cx="39754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The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B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(confusion) parame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ach state has a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(mean) vect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with length k ( 2 in this cas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re is one mixture per hidden sta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here is either a covariance matri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per state, or (more usually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one overall co-variance matrix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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6600" y="6203880"/>
            <a:ext cx="389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NB: We now use </a:t>
            </a: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 for the # of hidden nodes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# of observations is now shown as </a:t>
            </a:r>
            <a:r>
              <a:rPr b="0" i="1" lang="en-US" sz="16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61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380960" y="2771640"/>
          <a:ext cx="3276720" cy="137016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4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9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16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3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83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2133720" y="5853240"/>
                <a:ext cx="54226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5098320" y="4915080"/>
            <a:ext cx="3195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510160" y="2481120"/>
          <a:ext cx="2914560" cy="2152800"/>
        </p:xfrm>
        <a:graphic>
          <a:graphicData uri="http://schemas.openxmlformats.org/drawingml/2006/table">
            <a:tbl>
              <a:tblPr/>
              <a:tblGrid>
                <a:gridCol w="990360"/>
                <a:gridCol w="952560"/>
                <a:gridCol w="9716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 rot="16200000">
            <a:off x="4377600" y="36180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57560" y="323784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te at t me t-1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79040" y="238140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e at time 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19120" y="4410000"/>
          <a:ext cx="3124080" cy="1346400"/>
        </p:xfrm>
        <a:graphic>
          <a:graphicData uri="http://schemas.openxmlformats.org/drawingml/2006/table">
            <a:tbl>
              <a:tblPr/>
              <a:tblGrid>
                <a:gridCol w="1041120"/>
                <a:gridCol w="1041480"/>
                <a:gridCol w="10414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05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935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"/>
          <p:cNvSpPr/>
          <p:nvPr/>
        </p:nvSpPr>
        <p:spPr>
          <a:xfrm>
            <a:off x="814680" y="475920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496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28880" y="4467240"/>
          <a:ext cx="4991040" cy="2170080"/>
        </p:xfrm>
        <a:graphic>
          <a:graphicData uri="http://schemas.openxmlformats.org/drawingml/2006/table">
            <a:tbl>
              <a:tblPr/>
              <a:tblGrid>
                <a:gridCol w="342720"/>
                <a:gridCol w="609480"/>
                <a:gridCol w="304812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rm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8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69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6084e-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 * </a:t>
                      </a:r>
                      <a:r>
                        <a:rPr b="0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6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,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 = 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0514e-1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"/>
          <p:cNvSpPr/>
          <p:nvPr/>
        </p:nvSpPr>
        <p:spPr>
          <a:xfrm>
            <a:off x="6129360" y="4648320"/>
            <a:ext cx="29289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GB" sz="20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 = [4.0,60.0]}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ormalisation solves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problem with the Gaussi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functions consta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5510160" y="2481120"/>
          <a:ext cx="3099960" cy="1557360"/>
        </p:xfrm>
        <a:graphic>
          <a:graphicData uri="http://schemas.openxmlformats.org/drawingml/2006/table">
            <a:tbl>
              <a:tblPr/>
              <a:tblGrid>
                <a:gridCol w="1053360"/>
                <a:gridCol w="1013040"/>
                <a:gridCol w="103356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 baseline="30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438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5.45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082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8.801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993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3.237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 rot="16200000">
            <a:off x="4430160" y="31942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619280" y="2585880"/>
          <a:ext cx="3124080" cy="1346400"/>
        </p:xfrm>
        <a:graphic>
          <a:graphicData uri="http://schemas.openxmlformats.org/drawingml/2006/table">
            <a:tbl>
              <a:tblPr/>
              <a:tblGrid>
                <a:gridCol w="1095120"/>
                <a:gridCol w="987480"/>
                <a:gridCol w="104148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05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=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0.0829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.935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935280" y="3043080"/>
            <a:ext cx="60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3400" y="813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00000" y="4224240"/>
          <a:ext cx="8244000" cy="2176560"/>
        </p:xfrm>
        <a:graphic>
          <a:graphicData uri="http://schemas.openxmlformats.org/drawingml/2006/table">
            <a:tbl>
              <a:tblPr/>
              <a:tblGrid>
                <a:gridCol w="471600"/>
                <a:gridCol w="685800"/>
                <a:gridCol w="990720"/>
                <a:gridCol w="609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698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) + (0.0302*0) + (0.00*0.9835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0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.3047) + (0.0302*0.6167) + (0.00*0.0165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9698*0.6953) + (0.0302*0.3833) + (0.00*0)} * </a:t>
                      </a:r>
                      <a:r>
                        <a:rPr b="0" i="1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o</a:t>
                      </a:r>
                      <a:r>
                        <a:rPr b="0" lang="en-US" sz="15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,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5019120" y="2806560"/>
            <a:ext cx="357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[4.0,60.0]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               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 [2.0,80.0]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380960" y="2684520"/>
          <a:ext cx="3276720" cy="136980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4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95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167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83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83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 rot="16200000">
            <a:off x="457560" y="3075840"/>
            <a:ext cx="166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te at t me t-1         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9040" y="22939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ate at time t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s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95320" y="23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first coursework deals with using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lab seminar dealt with practical issues around the discrete HMM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se ideas all apply equally to the continuous valued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work requires you to write forwards and backwards evaluation routines and use them to measure statistics for a simple visual control tas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ing Mixture Models in continuous valued Hidden Markov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rther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ariable length Markov Models: “The Power of Amnesia”, D. Ron, Y. Singer and N. Tishby, In Advances in Neural Information Processing Systems (NIPS), vol 6, pp 176-183, 199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xtending VLMMs to work with continuous valued data: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“Learning temporal structure for task-based control”, check for latest version at 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informatics.sussex.ac.uk/users/khs2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can combine multi-dimensional Gaussian mixture models with simple HMMs to interpret continuous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hidden states then index the Gaussian mix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ward and backwards evaluation perform the same functions as in the discrete c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5960" y="2523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ynamic Bayes nets for recognising visual behaviour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G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vides a well-founded methodology for representing e.g.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bitrarily complex fun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bined with HMMs (previous lecture) provided one basis for a model of expectation capable of dealing with continuous valu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Gaussian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99960" y="2881440"/>
            <a:ext cx="414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n 1-dimension, the Gaussian Func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is the probability function of th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ormal distribu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4114800"/>
                <a:ext cx="3581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990720" y="2743200"/>
            <a:ext cx="3962160" cy="3371040"/>
            <a:chOff x="990720" y="2743200"/>
            <a:chExt cx="3962160" cy="3371040"/>
          </a:xfrm>
        </p:grpSpPr>
        <p:pic>
          <p:nvPicPr>
            <p:cNvPr id="103" name="gauss" descr=""/>
            <p:cNvPicPr/>
            <p:nvPr/>
          </p:nvPicPr>
          <p:blipFill>
            <a:blip r:embed="rId1"/>
            <a:stretch/>
          </p:blipFill>
          <p:spPr>
            <a:xfrm>
              <a:off x="990720" y="2743200"/>
              <a:ext cx="396216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flipV="1">
              <a:off x="3038400" y="2895480"/>
              <a:ext cx="0" cy="2895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62720" y="565452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919800" y="385920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x)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024520" y="521820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me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std devi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30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varian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8640" y="6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Gaussian fun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23640" y="4719600"/>
            <a:ext cx="3980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n extend this idea to k-dimens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the multivariate normal distribution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: # of dimension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x,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vectors of k data valu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: covariance matrix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T: matrix transpo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0" name="2Dmeshb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11" name="gauss1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1828800" cy="1757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97040" y="5200560"/>
                <a:ext cx="38592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|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4560" y="2486160"/>
            <a:ext cx="821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For single dimension (k=1) X with N observations = {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,…x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590920" y="3352680"/>
                <a:ext cx="40003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ance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1133640" y="5105520"/>
            <a:ext cx="733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small samples (say N &lt; 20), a better unbiased estim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s given by replacing 1/N terms with 1/(N-1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21320" y="2529000"/>
            <a:ext cx="56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r k-dimensional X with N observations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523880" y="3200400"/>
                <a:ext cx="34290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  ,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1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k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5029200"/>
                <a:ext cx="563904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08800" y="3200400"/>
                <a:ext cx="105696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μ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ariance and co-variance remin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590920"/>
                <a:ext cx="58676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,2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v</m:t>
                              </m:r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166760" y="4876920"/>
            <a:ext cx="68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Covariance matrix is symmetric I.e. cov(x</a:t>
            </a:r>
            <a:r>
              <a:rPr b="0" lang="en-GB" sz="2400" spc="-1" strike="noStrike" baseline="30000">
                <a:solidFill>
                  <a:srgbClr val="003366"/>
                </a:solidFill>
                <a:latin typeface="Times New Roman"/>
              </a:rPr>
              <a:t>k,1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)=cov(x</a:t>
            </a:r>
            <a:r>
              <a:rPr b="0" lang="en-GB" sz="2400" spc="-1" strike="noStrike" baseline="30000">
                <a:solidFill>
                  <a:srgbClr val="003366"/>
                </a:solidFill>
                <a:latin typeface="Times New Roman"/>
              </a:rPr>
              <a:t>1,k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Diagonal matrix is variance of 1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k paramet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Matrix encodes variability between var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Uncorrelated dimensions will have low co-vari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ffect of co-vari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cov_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667240" cy="2000520"/>
          </a:xfrm>
          <a:prstGeom prst="rect">
            <a:avLst/>
          </a:prstGeom>
          <a:ln w="0">
            <a:noFill/>
          </a:ln>
        </p:spPr>
      </p:pic>
      <p:pic>
        <p:nvPicPr>
          <p:cNvPr id="127" name="cov_80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128" name="cov_minus80" descr=""/>
          <p:cNvPicPr/>
          <p:nvPr/>
        </p:nvPicPr>
        <p:blipFill>
          <a:blip r:embed="rId3"/>
          <a:stretch/>
        </p:blipFill>
        <p:spPr>
          <a:xfrm>
            <a:off x="5867280" y="2895480"/>
            <a:ext cx="2667240" cy="200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962520" y="5105520"/>
                <a:ext cx="152388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523880" y="5105520"/>
                <a:ext cx="15242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477120" y="5181480"/>
                <a:ext cx="152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v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v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4:46:20Z</dcterms:modified>
  <cp:revision>65</cp:revision>
  <dc:subject/>
  <dc:title>Markov Models</dc:title>
</cp:coreProperties>
</file>